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978000" y="0"/>
            <a:ext cx="304308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417320" y="1163160"/>
            <a:ext cx="4187880" cy="314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841960"/>
            <a:ext cx="30430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978000" y="8841960"/>
            <a:ext cx="304308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DD27-D4DC-4972-BC99-1A138DFA3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6B2-0BB7-4B5B-A791-BB2BECD9D0B0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C207-98AE-459A-87D4-CAF76BAC767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5D2D-C516-4E38-80E6-3C594B8F722F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FAAF-F2D7-48AB-B9DE-2E56AD85B54B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C1E-1F45-4390-9377-9E2E3F8E9809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39E-6D16-4794-AFD3-1725FE32C26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8F35-5C66-4D41-A99F-8FBA64F896A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AE2B-C7DB-4A0D-A075-69389776D5BD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B09-2553-437F-9E50-481293FB8EAD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 (and Vella as nee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732-ABE7-4785-9F60-2DEDA1910D0C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F162-38CF-43A5-B82C-8621CC2EEB6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D94-2A37-45E1-B4D1-3564BCD7C8D7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35F-8FD0-40E6-8E39-063DFD194167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3278-75A3-4D2A-93AE-97BF980EF539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7F21-060B-4652-ACC4-78E63DD96D2E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E7A6-CB65-484C-A1DF-BE9CC6D31AE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 includes Program strategy -includes connection to Imagine Austin goals; Populations Served and Client Eligibility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V Cost Effectiveness includes Budget, Cost per client and social impact and return on inve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D4F-2479-4486-8EB9-0129A109A71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880" cy="31417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1280" y="4479840"/>
            <a:ext cx="5619960" cy="3665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8360" y="8842320"/>
            <a:ext cx="30430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249-9D21-4073-94C7-6F13095AA6A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754-F977-46D3-8161-EFB609B5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BED-8B13-4527-8749-2872DB9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117-93A5-4DF0-ABC4-A89BE169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257-014B-40A0-9461-D0A961C8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987C-E00E-479A-BFF8-B92F078E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A0F-AFAE-4ACD-A003-A19176D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14EC-A711-48AB-AA04-24D8119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D54C-03A4-45A3-A074-4488615C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59E-0BE7-40AC-B884-00513115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32FD-D018-43A7-B607-19B67F2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444-9E61-4247-A09B-81A6C2B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378-6996-4E64-90D1-8D7E109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9DEC-51A5-4177-A328-B9D2E12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13E3-5665-4A84-B0E5-D5140DE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FFFC-86DD-4923-8887-FFC93D08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2E34-47DE-4CDC-B091-FF74AB38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72F-13D4-469C-BF76-3109F05C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41B5-D49F-43F8-ADB7-BE57B122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E61B-630B-4894-B359-31790B9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D004-04D6-4B83-ACD0-355333E9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F744-998B-4328-8AF8-F90C966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09EF-7128-4A95-A469-6E43CE11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6FD-E3EB-42B6-9AA8-377E2565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637A-6509-44AF-AFC3-F8B049E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519C-D11E-42C1-8743-ECCCE85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F479-8FF4-4584-BA47-0919501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A7BB-DE58-43E6-A1B8-03706E2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96B0-D072-4315-93D6-546D21D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AD6D-5980-49EE-92E7-B80F581C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B24A-F6D9-4486-8998-B7B3E6D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CABF-B023-48B7-A665-9DE8230F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F91C-0932-4ED8-A719-56BF218B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BD36-692E-46AC-9FE1-267F000A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84B-95A5-44F6-9D7F-D51AB5B8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177A-026C-4772-90AA-5CFB673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3EE5-3BF1-471A-BBA0-71C504F2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0CC1-8023-4595-B365-21C11F2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39BE-1D72-4DEE-B50E-6490B9A9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791E-E12C-48AF-AEEE-CB3C374F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FB14-A554-43C7-A097-C6723FA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D2EF-A6CF-4E87-A394-4D02768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ADD9-BB80-4680-BDA7-06F7E5F1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8772-C164-4594-A1B5-CAE1B203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776C-EE1C-4C4E-8170-20170F18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B80-9BD8-44F8-AF96-6BE63020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22671-58BA-47F9-9B6A-DCBC398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AABBB-F25B-4D81-9447-5500B608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F77A-EB40-430A-A1B7-D3872C45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9282-AAEB-4536-83CE-1369C70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8825-3E56-40DC-9200-E664359C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33E02-46B1-4D7F-B4C5-6123053C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168C-7E13-4B84-B653-39D686E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4AAD-EC24-4829-BC68-912C9F1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4C1E-3E38-4C4E-8488-696ECA5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4155-BE84-452C-9EC9-1FFCA231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8F7-6DA8-4651-B345-6517059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9CCF-D5AE-445E-956A-FC4A474E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0D6A-40FA-4F7F-A0EE-C538A908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E33E-8D70-4607-83A4-ADFC1FF6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A422-9990-4AB4-9457-2855F018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32DA3-C3D9-4AE2-8FA3-14665AB0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843F-5F86-4131-BC70-FCABA00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B1FF-4B4A-4769-B893-58F6DB56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34F6-66AA-4BF2-8B92-BF598A70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4D9E-86E8-478B-9ECB-B5D7A6F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0918-84B4-4DBB-92BE-620F2FC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06C-CABB-4EFC-8FF4-DF0DBFB7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08009-832E-45AF-AFC9-D31F112C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02163-98C5-4DE6-91E1-41830954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F1754-1DB7-4052-A8E0-3EE86382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C1F7-F013-4946-8338-D9689E6A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8EB4-27DF-4C41-BD0B-38506072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C9917-5FBD-4E9C-84E0-9CA2195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146A-B213-41DC-9E92-7B84B01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93C4-1174-4381-992F-CB55D15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C8BF-6BA7-45E9-9734-F89D9D3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C568-496A-4C2D-AF92-0F47FF7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A98-2DAD-4D07-9732-F884C4D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FADD-6D3C-4A28-8E9B-AAD41A47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D873-0A88-4B66-AAF5-8524EEE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62BA-E2D4-47F4-A51B-27E0E7C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3DE4-08C3-4757-8443-83BAE242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D41B-1235-44E2-AAED-F1FD64AB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805-6EF8-4CFA-B59F-1081BEC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1E0-651B-41D9-9CFC-FD7502530B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81F-2BEB-4CDF-8F21-63D4D448C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D02-9ED5-4DA5-BD1A-72D8DF3600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CCC-12DC-4D6E-BED7-FBFE624CC0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698-AE82-4FE2-8625-0D61EF6FC908}" type="slidenum">
              <a:rPr b="0" lang="en-US" sz="10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E0D-5EA7-483A-9214-AA4E75668B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2D56-F6EC-42CB-85FF-7E459AECE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ustintexas.gov/article/affordable-care-act-enrollment-solicita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6456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62626"/>
                </a:solidFill>
                <a:latin typeface="Calibri Light"/>
              </a:rPr>
              <a:t>Affordable Care Act Enrollment Request for Applications (RFA)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Calibri Light"/>
              </a:rPr>
              <a:t>PRE-PROPOSAL MEET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5029200" y="4572000"/>
            <a:ext cx="3881520" cy="1465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21, 2018 3:00 p.m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y Dunkerley Campu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201 Levander Loo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Room E-1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Austin, TX 7870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91584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22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I: PROGRAM STRATEGIES &amp; TARGET POPULATION </a:t>
            </a:r>
            <a:r>
              <a:rPr b="1" lang="en-US" sz="2000" spc="-1" strike="noStrike">
                <a:solidFill>
                  <a:srgbClr val="404040"/>
                </a:solidFill>
                <a:latin typeface="Calibri Light"/>
              </a:rPr>
              <a:t>(5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ffordable Care Act Enrollment Services can include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Client Eligibility Determination for ACA Enrollment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pre-screen clients to determine potential eligibility; address needs through navigation and referrals 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ACA Enrollment and Plan Navigation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enroll clients into a marketplace plan of their choice and/or help clients pick a plan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Referrals to Other Enrollment Providers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process for referring clients to programs such as Medicaid, Children’s Health Insurance Program (CHIP), and Medical Assistance Program (MAP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Accessible Services for All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open and accessible during Open and Special Enrollment periods; serves clients with high medical needs and/or disabling condition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Education Services to Newly Insured in the Marketplace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upportive services, education, and navigation service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34817"/>
                </a:solidFill>
                <a:latin typeface="Calibri"/>
              </a:rPr>
              <a:t>Program Communications</a:t>
            </a:r>
            <a:r>
              <a:rPr b="0" lang="en-US" sz="1900" spc="-1" strike="noStrike">
                <a:solidFill>
                  <a:srgbClr val="d34817"/>
                </a:solidFill>
                <a:latin typeface="Calibri"/>
              </a:rPr>
              <a:t>: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marketing process to inform clients who are eligible for ACA enrollment; accepts referrals from 2-1-1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1905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I: PROGRAM STRATEGIES &amp; POPULATION </a:t>
            </a:r>
            <a:r>
              <a:rPr b="1" lang="en-US" sz="2000" spc="-1" strike="noStrike">
                <a:solidFill>
                  <a:srgbClr val="404040"/>
                </a:solidFill>
                <a:latin typeface="Calibri Light"/>
              </a:rPr>
              <a:t>(50 possible points) con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opulation(s) Served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client eligibility requirements are outlined in Section 0620 – Client Eligibility Require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pplicant’s policies and practices will align with the following National Culturally and Linguistically Appropriate Services (CLAS) Standard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ducate and train governance, leadership, and workforce in culturally and linguistically appropriate policies and practices on an ongoing basis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Offer language assistance to individuals who have limited English proficiency and/or other communication needs, at no cost to them, to facilitate timely access to all health care and services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nform all individuals of the availability of language assistance services clearly and in their preferred language, verbally and in writing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549360" indent="-1767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Ensure the competence of individuals providing language assistance, recognizing that the use of untrained individuals and/or minors as interpreters should be avoided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194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2716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PART II: DATA MANAGEMENT &amp; PROGRAM EVALUATION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10 possible point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mpliance with HIPAA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ast successes and challenges with data manag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ata used for improving practices and program effectiven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PART III: STAFFING PLA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1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mplete Section 0645 – Program Staff Positions &amp; Tim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scribe staffing plan and training process, and ability to enroll clients the first day of Open Enroll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ovide position descriptions, qualifications, and/or certificatio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PART IV: PROGRAM PERFORMANCE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(1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ired Outcome: Percentage of unduplicated individuals who are eligible for ACA Marketplace insurance and receive enrollment assistance from the program that are enrolled or likely to enroll in a Marketplace health insurance pla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ropose second outcom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Required Output (unduplicated clients served annuall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59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V: COST EFFECTIVENESS  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(2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udge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mplete Section 065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ll expenses should be identifiable, reasonable, and necessa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Cost Per Cli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lease note that an agency may have multiple programs, and this section is requesting the cost per client only for the proposed program in this appl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Social Impact &amp; Return on Invest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4400" indent="-274320">
              <a:lnSpc>
                <a:spcPct val="100000"/>
              </a:lnSpc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ocial impact and return on investment refer to the proposed program’s positive impact on social, financial, environmental, and/or quality of life factors for clients and/or the commun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55720" y="1828800"/>
            <a:ext cx="76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PART VI: BONUS EVALUATION POINTS  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(10 possible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Optional sectio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Points awarded for implementation of OR agreeing to implement the following healthy service environment practic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obacco-free campus (3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Mother-friendly work place (3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Employee wellness initiative (3 poi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Violence prevention policy (1 point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The Chronic Disease &amp; Injury Prevention unit of Austin Public Health will assist Applicants in planning and implementing these policie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32960" indent="-315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r assistance, please call 512-972-5222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4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ection 0050 &amp; Section 0835</a:t>
            </a: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846080"/>
            <a:ext cx="75438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letion of Sections 0050 &amp; 0835 is required as part of appl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tion 0050 Request for Application (RFA) Offer Shee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73080" indent="-39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ACA1 available for download on the solicitation page: </a:t>
            </a:r>
            <a:r>
              <a:rPr b="0" lang="en-US" sz="2000" spc="-1" strike="noStrike" u="sng">
                <a:solidFill>
                  <a:srgbClr val="cc9900"/>
                </a:solidFill>
                <a:uFillTx/>
                <a:latin typeface="Calibri Light"/>
                <a:hlinkClick r:id="rId1"/>
              </a:rPr>
              <a:t>http://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austintexas.gov/article/affordable-care-act-enrollment-solicitation </a:t>
            </a: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973080" indent="-39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Signature by authorized representative needed in order for the City of Austin to accept the appli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tion 0835 Nonresident Bidder Provis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Document ACA9 available for download on the solicitation page: http://austintexas.gov/article/affordable-care-act-enrollment-solicitation </a:t>
            </a:r>
            <a:r>
              <a:rPr b="0" i="1" lang="en-US" sz="20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rm establishes area of residency for the agency applying for this solicitatio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Section 0645 &amp; Section 0650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736640"/>
            <a:ext cx="85341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lvl="1"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letion of Sections 0645 &amp; 0650 is required as part of appl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tion 0645 Program Staff Positions and Tim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24120" indent="-378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cument ACA6 available for download on the solicitation page: http://austintexas.gov/article/affordable-care-act-enrollment-solicitatio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924120" indent="-378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lude list of position titles, not staff na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tion 0650 Program Budget and Narrati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cument ACA7 available for download on the solicitation page: http://austintexas.gov/article/affordable-care-act-enrollment-solicitatio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lude full list of other funding sources in addition to City amount of funding requested in specified columns on pg. 4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5680" indent="-856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vide narrative descriptions of expenses to be paid for by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ity funds on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Important Dates</a:t>
            </a: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	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188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Last day to submit questions to APH in writing: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June 7, 2018, 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5:00 p.m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Applications DUE to APH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June 15, 2018, 11:00am                  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TENTATIVE: Austin City Council Approval on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ugust 23, 2018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TENTATIVE: Agreement Start Date:     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October 1, 2018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Submittal Requirem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3520" y="1846080"/>
            <a:ext cx="82296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 Light"/>
              </a:rPr>
              <a:t>ALL PROPOSALS SHALL BE SUBMITTED PRIOR TO 11:00 AM (CST), June 15, 2018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Do not submit booklets, pamphlets, or other bulky ite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Do not use covers, card stock, staples, binders, notebooks, or dividers with tab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Submissions should be delivered in sealed envelopes with the proposal fastened with binder clips only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4" marL="1092240" indent="-34308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Envelope 1: Application Threshold Checklist &amp; Associated Document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4" marL="1092240" indent="-34308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Envelope 2: Application Document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4" marL="1092240" indent="-34308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404040"/>
                </a:solidFill>
                <a:latin typeface="Calibri Light"/>
              </a:rPr>
              <a:t>Reference Page 2 of Section 0500, Application, Scope of Work, and Instructions for full list of required sections and attachments for each envelop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404040"/>
                </a:solidFill>
                <a:uFillTx/>
                <a:latin typeface="Calibri Light"/>
              </a:rPr>
              <a:t>Deliver to: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Austin Public Healt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Attn: Laura Williamso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7201 Levander Loop, Building 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 Light"/>
              </a:rPr>
              <a:t>Austin, TX 78702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QUESTIONS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50" name="Content Placeholder 3" descr=""/>
          <p:cNvPicPr/>
          <p:nvPr/>
        </p:nvPicPr>
        <p:blipFill>
          <a:blip r:embed="rId1"/>
          <a:stretch/>
        </p:blipFill>
        <p:spPr>
          <a:xfrm>
            <a:off x="2092320" y="1846440"/>
            <a:ext cx="5003640" cy="402264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5" descr=""/>
          <p:cNvPicPr/>
          <p:nvPr/>
        </p:nvPicPr>
        <p:blipFill>
          <a:blip r:embed="rId2"/>
          <a:stretch/>
        </p:blipFill>
        <p:spPr>
          <a:xfrm>
            <a:off x="5761080" y="1494000"/>
            <a:ext cx="1461960" cy="1719000"/>
          </a:xfrm>
          <a:prstGeom prst="rect">
            <a:avLst/>
          </a:prstGeom>
          <a:ln w="0">
            <a:noFill/>
          </a:ln>
        </p:spPr>
      </p:pic>
      <p:pic>
        <p:nvPicPr>
          <p:cNvPr id="352" name="Rectangle 7" descr=""/>
          <p:cNvPicPr/>
          <p:nvPr/>
        </p:nvPicPr>
        <p:blipFill>
          <a:blip r:embed="rId3"/>
          <a:stretch/>
        </p:blipFill>
        <p:spPr>
          <a:xfrm>
            <a:off x="378000" y="3840120"/>
            <a:ext cx="1584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Introduc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66520" y="1980720"/>
            <a:ext cx="7521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04040"/>
                </a:solidFill>
                <a:latin typeface="Calibri"/>
              </a:rPr>
              <a:t>AUSTIN PUBLIC HEALTH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Vella Karman, Social Services Policy Unit Manage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Laura Williamson, Social Services Policy Unit Program Coordinator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60000"/>
              </a:lnSpc>
              <a:spcBef>
                <a:spcPts val="201"/>
              </a:spcBef>
              <a:buClr>
                <a:srgbClr val="d34817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(512) 972-5206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60000"/>
              </a:lnSpc>
              <a:spcBef>
                <a:spcPts val="201"/>
              </a:spcBef>
              <a:buClr>
                <a:srgbClr val="d34817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Laura.Williamson2@austintexas.gov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60000"/>
              </a:lnSpc>
              <a:spcBef>
                <a:spcPts val="201"/>
              </a:spcBef>
              <a:buClr>
                <a:srgbClr val="d34817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04040"/>
                </a:solidFill>
                <a:latin typeface="Calibri"/>
              </a:rPr>
              <a:t>ORGANIZATION INTRODUCTIONS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Sign-in sheet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Comment card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d348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lease hold all questions until the end of the presen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15364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Overview of Funding &amp; Requiremen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1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$100,000 total funding available for initial 12-month perio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Up to four 12-month extension options not to exce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$100,000 each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090440" indent="-342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Contingent on Council approval of funding during future budget processes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nticipated agreement will be awarded to one Applica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mmunity-based organizations including social services providers and government agencies are eligible to app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77320" cy="55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Overview of Funding &amp; Requiremen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1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pplicants: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May propose expanding existing services or implementing new services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May provide services as one agency or through a collaboration                 </a:t>
            </a: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(one agency must be designated lead Applicant)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Should have at least 2 years successful experience providing proposed services and/or working with proposed target population 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"/>
              </a:rPr>
              <a:t>Expertise including, but not limited to: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Client enrollment in the Affordable Care Act (ACA) health insurance marketplace during Open and Special Enrollment period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ssistance to clients with high medical needs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Navigation and management of complex cases including referral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Follow up and case resolutio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Cooperative relationships with consumer groups, referring entities, medical providers and providers of local patient financial assistance progra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City Goals for the Program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1846440"/>
            <a:ext cx="76039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ssist clients wi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rollment in the ACA health insurance marketplace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uring Open and Special enrollment period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rovid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coordination and navigation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or clients with complex medical and/or enrollment need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cti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peration and coordination with organizations providing medical services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nd local patient financial assistance program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Communication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1880" y="1846440"/>
            <a:ext cx="754380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 Light"/>
              </a:rPr>
              <a:t>Questions and Answers Process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All questions submitted via email and through public meetings will be answered in writing and posted to the solicitation page: </a:t>
            </a:r>
            <a:r>
              <a:rPr b="0" i="1" lang="en-US" sz="2400" spc="-1" strike="noStrike" u="sng">
                <a:solidFill>
                  <a:srgbClr val="df6c5d"/>
                </a:solidFill>
                <a:uFillTx/>
                <a:latin typeface="Calibri"/>
              </a:rPr>
              <a:t>http://www.austintexas.gov/article/affordable-care-act-enrollment-solicitat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Questions should be directed to Laura Williamson, </a:t>
            </a:r>
            <a:r>
              <a:rPr b="0" lang="en-US" sz="2200" spc="-1" strike="noStrike" u="sng">
                <a:solidFill>
                  <a:srgbClr val="df6c5d"/>
                </a:solidFill>
                <a:uFillTx/>
                <a:latin typeface="Calibri Light"/>
              </a:rPr>
              <a:t>Laura.Williamson2@austintexas.gov </a:t>
            </a: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       </a:t>
            </a: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512-972-520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726480" indent="-1767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Deadline to submit questions is 5:00pm on June 7, 2018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 Light"/>
              </a:rPr>
              <a:t>Anti-lobbying ordinance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lvl="2" marL="716040" indent="-1771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 Light"/>
              </a:rPr>
              <a:t>Request for Application (RFA) process: anti-lobbying ordinance does not apply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5438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Required Docum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142640"/>
            <a:ext cx="8167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ll required forms available for download on the solicitation page: </a:t>
            </a:r>
            <a:r>
              <a:rPr b="0" i="1" lang="en-US" sz="1500" spc="-1" strike="noStrike" u="sng">
                <a:solidFill>
                  <a:srgbClr val="0070c0"/>
                </a:solidFill>
                <a:uFillTx/>
                <a:latin typeface="Calibri"/>
              </a:rPr>
              <a:t>http://www.austintexas.gov/article/</a:t>
            </a:r>
            <a:r>
              <a:rPr b="0" lang="en-US" sz="1500" spc="-1" strike="noStrike" u="sng">
                <a:solidFill>
                  <a:srgbClr val="0070c0"/>
                </a:solidFill>
                <a:uFillTx/>
                <a:latin typeface="Calibri"/>
              </a:rPr>
              <a:t>affordable-care-act-enrollment-solicitation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quired form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050 Request for Application (RFA) Offer Shee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500 Application, Scope of Work, and Instruction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610 Application Threshold Checklis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645 Program Staff Positions and Tim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650 Program Budget and Narrativ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ection 0835 Nonresident Bidder Provision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quired attach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Current Board of Directors bylaws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Copy of the most recently filed 990 or 990 EZ (no older than FY 2016)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Most recent financial audit, covering the two most recent consecutive audit years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Approved Board of Directors Minutes that reflect documented processes to review program performance, approve budgets, review finance performance, and approve audit reports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Optional attachment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Approved and signed Healthy Service Environment policy/policies (</a:t>
            </a:r>
            <a:r>
              <a:rPr b="0" i="1" lang="en-US" sz="1500" spc="-1" strike="noStrike">
                <a:solidFill>
                  <a:srgbClr val="404040"/>
                </a:solidFill>
                <a:latin typeface="Calibri"/>
              </a:rPr>
              <a:t>reference Part VI of Section 0500-Application, Scope of Work, and Instructions</a:t>
            </a:r>
            <a:r>
              <a:rPr b="0" lang="en-US" sz="15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Evaluation Crite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38080" y="1828800"/>
          <a:ext cx="7453440" cy="4255920"/>
        </p:xfrm>
        <a:graphic>
          <a:graphicData uri="http://schemas.openxmlformats.org/drawingml/2006/table">
            <a:tbl>
              <a:tblPr/>
              <a:tblGrid>
                <a:gridCol w="5715000"/>
                <a:gridCol w="173844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IMUM POINT VALUE: 110 po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RNED IN ALL REQUIRED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1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: Program Strategies &amp; Target 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gram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ion to Imagine Aus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tion(s) Serv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I: Data Management and Program E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II: Staffing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IV: Program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 V: Cost Effectiv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Impact and Return on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7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 VI: BONUS EVLAUATION POINTS 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tional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Section 0500 – Application, Scope of Work, and Instruction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 Light"/>
              </a:rPr>
              <a:t>Response Instruction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Applicant must submit answers to all questions in a separate Word document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It is preferable to be repetitive rather than to leave sections incomple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Write question # and N/A when an answer will not be provid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omply with page limit of 20 total page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Use size 12 Times New Roman font, double-spacing, and 1” margin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Print single sided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early label each section: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Application Questions A, B, C, D (p. 3-4 of 13 in 0500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Parts I, II, III, IV, V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d348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Part VI if responding to optional se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851040" indent="-285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21:26:34Z</dcterms:created>
  <dc:creator>Hilbun, John</dc:creator>
  <dc:description/>
  <dc:language>en-US</dc:language>
  <cp:lastModifiedBy>Friedman, Michelle</cp:lastModifiedBy>
  <cp:lastPrinted>2018-01-12T18:22:56Z</cp:lastPrinted>
  <dcterms:modified xsi:type="dcterms:W3CDTF">2018-05-21T15:07:18Z</dcterms:modified>
  <cp:revision>147</cp:revision>
  <dc:subject/>
  <dc:title>HOUSING FIRST PERMANENT SUPPORTIVE HOUSING</dc:title>
</cp:coreProperties>
</file>