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97800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417320" y="1163160"/>
            <a:ext cx="4187880" cy="314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97800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223-3F24-4CF3-9D33-4B8C2EFA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2B3D-5A0F-4E01-92D0-B0844C8EE3D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489-10E2-4774-A2DE-C20E250329C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3B5-EE2A-45A6-9381-F5BAAD074428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F3D-397A-42A8-BF99-EA2C14569FF0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1E8-696F-447C-AFA2-D617DE162AE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297-4119-4DF3-8388-D1DC8E62C85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837-A9E0-456B-A12E-1E6D09AC8BE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703-CE31-4772-84B5-4403FC2FA0F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CBF-F4CB-4691-AFC1-F8764CD61B7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 (and Vella as nee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8D1-4D69-4E29-AB3D-96CAD902EBA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906-5E36-4E30-8AF9-33FD676AF0D7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18C-FABA-4747-B1C9-F38E3755F4E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03F-C162-4FC1-9319-9C60589CEB8E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C94-DBA4-44D3-A16C-C505F7F02EA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CE3-DFB5-4F07-9DC3-08FDECD547D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984-9642-405A-8C52-DA283A4744DB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 includes Program strategy -includes connection to Imagine Austin goals; Populations Served and Client Eligibility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V Cost Effectiveness includes Budget, Cost per client and social impact and return on inve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29A2-3D9C-41ED-9B7D-7F7F2399177A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12A-B8EE-4598-B58A-AAAD5B943E3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0CD-22B5-4BED-887E-111E93D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B77-6A97-428D-9D86-0713F35B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0F1-A322-4E4C-A6E1-1972640F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49F-DF25-48E0-9403-10BFCF99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AA6B-6526-451D-9BEE-0F292D9F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FE43-6490-475F-8EDD-0F976A69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C56E-59E0-42D3-8C34-B6902D86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94C-B6EA-4D9F-9ABF-9087A53F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FD4-DD5D-4660-B1D2-F7A4151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A0D-414D-4942-91E0-A25F30CA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885A-C6D9-49B6-A2C6-10196CE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447-E98F-42E3-B95E-B70B3CD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600-44CD-4832-89BA-768ACB10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FDF-4A61-4B57-85F6-5EF0BD0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D49F-A966-44A5-85EE-2578E11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D02C-3B8A-4315-A945-1560BDA8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5621-9FA3-4BA1-8BEE-99857A0C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C6A4-1890-487B-92A8-4987CA50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7D96-A58D-42F1-A3C0-506F101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461A-3991-4265-B9F4-2C1E449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2A3A-91A7-4F69-B0DA-A7960B9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776C-A5F9-416F-9014-ADDB4E9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439-BF3C-41ED-BA2D-A4B3661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D7B0-25C7-48C9-BAD6-B8120317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E8F7-333B-45D0-A389-A27F5619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607C-0B6E-40C7-8FE7-5567021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A773-4BA1-47D7-AF19-47BAE7A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319F-C17C-4980-9262-8A54D78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0854-6C80-4ECF-B36F-FEF9A834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A002-6A4C-4C5C-95DF-B7504DA6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9673-1836-413A-9328-27EBAD9C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4CD9-D745-49F2-B153-0E997CF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CBD0-DF13-4025-BA0E-651CF6D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C38-4B71-4209-8418-B4C09A3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62B4-F82C-4858-893B-C5EF831F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8A1B-831C-447B-8F27-41AFEF0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0AE2-88BE-4C21-AD6B-60D72144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E0BB-8E3E-48CD-A7EA-E11B85F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8104-5FB3-42B6-AAD0-9FCD057B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86E3-7F81-4E5E-95E4-4B8E6D8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31A8-52E0-416F-8162-B9699E70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0AC9-FC1F-44D9-92CA-020AEF99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D5D5-9B8F-46B8-BB1B-FD294848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4E3E-5CED-4ED2-A38D-1E58E256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A3B-058E-4D7E-83CC-5F641B11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944F-9057-4108-A51A-E944F0C2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F0FA-CDCA-4174-928E-E3F3B9F0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7390-C584-4721-89EF-C3E4BD37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7700-E8E3-46EA-870E-47149C4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5B1F-06FF-471E-8E95-1F624CB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595A-8103-4D09-AD0F-D6DFA6E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2F8B-850D-4B8A-8598-71B374E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CD34-877D-49A0-A41C-A0FCDF72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BC9C-24E2-474A-ADC1-079F698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2F97D-9146-4836-899D-F6755152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8A9-BA77-4811-97EB-4C0EDB6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B395-2E24-4CC6-9EA9-8791C7B4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27E0-5BEA-439E-A357-F5705122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2990-05A9-4A34-A881-C10E8B9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46E7-A471-47A6-B05E-1B9B2ED4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D403-AC02-499F-9641-1E9D979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83B2-8B3F-4E1A-9FAD-A15BC59A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A075F-FFDF-44BD-BBA0-E846E31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15B7-EFB2-426F-8A7C-F2016F3A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5542-79B4-4BC6-991B-5659F24A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32FA-8260-4A97-8AE1-D4524B4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6A3-9582-45FA-8380-5C8F4114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7426-E872-412C-80D5-C3E86F7F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9BB3-2B25-48D8-A7CE-0A052654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C1EA-EC51-4AEC-8D69-5683C8CC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F70F-3193-4949-A3C0-9469DE16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AE8DA-DED4-414F-BF72-038D9EE6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9D24-8DE2-489C-B571-2118199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232F-3637-443B-B9A4-22F230A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89B8-CA4E-4E69-B250-D22159B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E51A-4EAA-4BD4-9E30-5C13192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E396-FF6E-4CEF-BF79-18E1D88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422-7615-4D45-A077-5E30892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D409-CA26-44DF-9FFA-E7B051C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6C0D-DB04-4FE0-853A-A99659E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2ACA1-0D1E-4E07-A364-F62F7DC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D89C-EF13-4C79-B8A0-DCBA7672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1ED0-A5F9-4E46-AE2D-A39253E7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A34-9024-4557-890B-EF1DF68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095F-DE9C-4217-A6F8-AC103983B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8904-984B-43CB-846A-7309CF730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232-4197-4424-A16E-21B59682A4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9B3-437E-49F2-88F2-4099F301EF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996-AE91-45DB-AA62-1C0B9A3436E1}" type="slidenum">
              <a:rPr b="0" lang="en-US" sz="10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5CB5-21D5-4130-9AF0-E1AC64359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A6F-F1C2-408E-9D67-4C83584DD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ustintexas.gov/article/affordable-care-act-enrollment-solicita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6456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Calibri Light"/>
              </a:rPr>
              <a:t>Affordable Care Act Enrollment Request for Applications (RFA)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Calibri Light"/>
              </a:rPr>
              <a:t>PRE-PROPOSAL MEE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029200" y="4572000"/>
            <a:ext cx="3881520" cy="1465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21, 2018 3:00 p.m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y Dunkerley Campu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201 Levander Loo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Room E-1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Austin, TX 7870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91584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22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I: PROGRAM STRATEGIES &amp; TARGET POPULATION </a:t>
            </a:r>
            <a:r>
              <a:rPr b="1" lang="en-US" sz="2000" spc="-1" strike="noStrike">
                <a:solidFill>
                  <a:srgbClr val="404040"/>
                </a:solidFill>
                <a:latin typeface="Calibri Light"/>
              </a:rPr>
              <a:t>(5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ffordable Care Act Enrollment Services can include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Client Eligibility Determination for ACA Enrollment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pre-screen clients to determine potential eligibility; address needs through navigation and referrals 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ACA Enrollment and Plan Navigation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nroll clients into a marketplace plan of their choice and/or help clients pick a plan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Referrals to Other Enrollment Providers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process for referring clients to programs such as Medicaid, Children’s Health Insurance Program (CHIP), and Medical Assistance Program (MAP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Accessible Services for All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open and accessible during Open and Special Enrollment periods; serves clients with high medical needs and/or disabling condition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Education Services to Newly Insured in the Marketplace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upportive services, education, and navigation service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Program Communications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marketing process to inform clients who are eligible for ACA enrollment; accepts referrals from 2-1-1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1905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I: PROGRAM STRATEGIES &amp; POPULATION </a:t>
            </a:r>
            <a:r>
              <a:rPr b="1" lang="en-US" sz="2000" spc="-1" strike="noStrike">
                <a:solidFill>
                  <a:srgbClr val="404040"/>
                </a:solidFill>
                <a:latin typeface="Calibri Light"/>
              </a:rPr>
              <a:t>(50 possible points) con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opulation(s) Served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client eligibility requirements are outlined in Section 0620 – Client Eligibility Require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pplicant’s policies and practices will align with the following National Culturally and Linguistically Appropriate Services (CLAS) Standard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ducate and train governance, leadership, and workforce in culturally and linguistically appropriate policies and practices on an ongoing basi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Offer language assistance to individuals who have limited English proficiency and/or other communication needs, at no cost to them, to facilitate timely access to all health care and service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nform all individuals of the availability of language assistance services clearly and in their preferred language, verbally and in writing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nsure the competence of individuals providing language assistance, recognizing that the use of untrained individuals and/or minors as interpreters should be avoided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2716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I: DATA MANAGEMENT &amp; PROGRAM EVALUATION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mpliance with HIPA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ast successes and challenges with data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ata used for improving practices and program effective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II: STAFFING PLA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mplete Section 0645 – Program Staff Positions &amp; Tim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scribe staffing plan and training process, and ability to enroll clients the first day of Open Enroll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ovide position descriptions, qualifications, and/or cert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V: PROGRAM PERFORMANCE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ired Outcome: Percentage of unduplicated individuals who are eligible for ACA Marketplace insurance and receive enrollment assistance from the program that are enrolled or likely to enroll in a Marketplace health insurance pl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opose second outcom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ired Output (unduplicated clients served annual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59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V: COST EFFECTIVENESS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(2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udge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mplete Section 065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ll expenses should be identifiable, reasonable, and necessa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Cost Per Cl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lease note that an agency may have multiple programs, and this section is requesting the cost per client only for the proposed program in this ap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Social Impact &amp; Return on Invest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ocial impact and return on investment refer to the proposed program’s positive impact on social, financial, environmental, and/or quality of life factors for clients and/or the commun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55720" y="1828800"/>
            <a:ext cx="76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VI: BONUS EVALUATION POINTS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Optional sectio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Points awarded for implementation of OR agreeing to implement the following healthy service environment practic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obacco-free campus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Mother-friendly work place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Employee wellness initiative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Violence prevention policy (1 point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The Chronic Disease &amp; Injury Prevention unit of Austin Public Health will assist Applicants in planning and implementing these polici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r assistance, please call 512-972-5222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ction 0050 &amp; Section 0835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846080"/>
            <a:ext cx="7543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tion of Sections 0050 &amp; 0835 is required as part of appl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tion 0050 Request for Application (RFA) Offer Shee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73080" indent="-39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CA1 available for download on the solicitation page: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Calibri Light"/>
                <a:hlinkClick r:id="rId1"/>
              </a:rPr>
              <a:t>http://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ustintexas.gov/article/affordable-care-act-enrollment-solicitation </a:t>
            </a: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973080" indent="-39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Signature by authorized representative needed in order for the City of Austin to accept the ap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tion 0835 Nonresident Bidder Provis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Document ACA9 available for download on the solicitation page: http://austintexas.gov/article/affordable-care-act-enrollment-solicitation </a:t>
            </a:r>
            <a:r>
              <a:rPr b="0" i="1" lang="en-US" sz="20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rm establishes area of residency for the agency applying for this 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Section 0645 &amp; Section 0650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736640"/>
            <a:ext cx="85341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lvl="1"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tion of Sections 0645 &amp; 0650 is required as part of appl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tion 0645 Program Staff Positions and Ti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24120" indent="-378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cument ACA6 available for download on the solicitation page: http://austintexas.gov/article/affordable-care-act-enrollment-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924120" indent="-378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list of position titles, not staff na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tion 0650 Program Budget and Narr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cument ACA7 available for download on the solicitation page: http://austintexas.gov/article/affordable-care-act-enrollment-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full list of other funding sources in addition to City amount of funding requested in specified columns on pg. 4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vide narrative descriptions of expenses to be paid for by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ity funds on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Important Dates</a:t>
            </a: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	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188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Last day to submit questions to APH in writing: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June 7, 2018, 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5:00 p.m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Applications DUE to APH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June 15, 2018, 11:00am                  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TENTATIVE: Austin City Council Approval on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ugust 23, 2018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TENTATIVE: Agreement Start Date:     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October 1, 2018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Submittal Requirem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520" y="1846080"/>
            <a:ext cx="82296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 Light"/>
              </a:rPr>
              <a:t>ALL PROPOSALS SHALL BE SUBMITTED PRIOR TO 11:00 AM (CST), June 15, 2018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Do not submit booklets, pamphlets, or other bulky i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Do not use covers, card stock, staples, binders, notebooks, or dividers with tab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Submissions should be delivered in sealed envelopes with the proposal fastened with binder clips only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Envelope 1: Application Threshold Checklist &amp; Associated Docu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Envelope 2: Application Docu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404040"/>
                </a:solidFill>
                <a:latin typeface="Calibri Light"/>
              </a:rPr>
              <a:t>Reference Page 2 of Section 0500, Application, Scope of Work, and Instructions for full list of required sections and attachments for each envelop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404040"/>
                </a:solidFill>
                <a:uFillTx/>
                <a:latin typeface="Calibri Light"/>
              </a:rPr>
              <a:t>Deliver to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ustin Public Healt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ttn: Laura Williams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7201 Levander Loop, Building 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ustin, TX 78702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QUESTIONS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0" name="Content Placeholder 3" descr=""/>
          <p:cNvPicPr/>
          <p:nvPr/>
        </p:nvPicPr>
        <p:blipFill>
          <a:blip r:embed="rId1"/>
          <a:stretch/>
        </p:blipFill>
        <p:spPr>
          <a:xfrm>
            <a:off x="2092320" y="1846440"/>
            <a:ext cx="5003640" cy="402264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5" descr=""/>
          <p:cNvPicPr/>
          <p:nvPr/>
        </p:nvPicPr>
        <p:blipFill>
          <a:blip r:embed="rId2"/>
          <a:stretch/>
        </p:blipFill>
        <p:spPr>
          <a:xfrm>
            <a:off x="5761080" y="1494000"/>
            <a:ext cx="1461960" cy="1719000"/>
          </a:xfrm>
          <a:prstGeom prst="rect">
            <a:avLst/>
          </a:prstGeom>
          <a:ln w="0">
            <a:noFill/>
          </a:ln>
        </p:spPr>
      </p:pic>
      <p:pic>
        <p:nvPicPr>
          <p:cNvPr id="352" name="Rectangle 7" descr=""/>
          <p:cNvPicPr/>
          <p:nvPr/>
        </p:nvPicPr>
        <p:blipFill>
          <a:blip r:embed="rId3"/>
          <a:stretch/>
        </p:blipFill>
        <p:spPr>
          <a:xfrm>
            <a:off x="378000" y="3840120"/>
            <a:ext cx="1584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Introduc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66520" y="1980720"/>
            <a:ext cx="7521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04040"/>
                </a:solidFill>
                <a:latin typeface="Calibri"/>
              </a:rPr>
              <a:t>AUSTIN PUBLIC HEALTH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Vella Karman, Social Services Policy Unit Manage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Laura Williamson, Social Services Policy Unit Program Coordinator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(512) 972-5206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Laura.Williamson2@austintexas.gov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04040"/>
                </a:solidFill>
                <a:latin typeface="Calibri"/>
              </a:rPr>
              <a:t>ORGANIZATION INTRODUCTIONS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Sign-in sheet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Comment card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lease hold all questions until the end of the presen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15364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Overview of Funding &amp; Requiremen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1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$100,000 total funding available for initial 12-month peri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Up to four 12-month extension options not to exce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$100,000 each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090440" indent="-342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Contingent on Council approval of funding during future budget processes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nticipated agreement will be awarded to one Applica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mmunity-based organizations including social services providers and government agencies are eligible to app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7732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Overview of Funding &amp; Requiremen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1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pplicants: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May propose expanding existing services or implementing new services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May provide services as one agency or through a collaboration                 </a:t>
            </a: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(one agency must be designated lead Applicant)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Should have at least 2 years successful experience providing proposed services and/or working with proposed target population 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Expertise including, but not limited to: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lient enrollment in the Affordable Care Act (ACA) health insurance marketplace during Open and Special Enrollment period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ssistance to clients with high medical need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Navigation and management of complex cases including referral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Follow up and case resoluti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ooperative relationships with consumer groups, referring entities, medical providers and providers of local patient financial assistance progra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City Goals for the Program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1846440"/>
            <a:ext cx="76039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ssist clients wi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llment in the ACA health insurance marketplace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uring Open and Special enrollment perio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rovid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coordination and navigation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or clients with complex medical and/or enrollment nee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cti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peration and coordination with organizations providing medical services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nd local patient financial assistance program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Communication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 Light"/>
              </a:rPr>
              <a:t>Questions and Answers Process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All questions submitted via email and through public meetings will be answered in writing and posted to the solicitation page: </a:t>
            </a:r>
            <a:r>
              <a:rPr b="0" i="1" lang="en-US" sz="2400" spc="-1" strike="noStrike" u="sng">
                <a:solidFill>
                  <a:srgbClr val="df6c5d"/>
                </a:solidFill>
                <a:uFillTx/>
                <a:latin typeface="Calibri"/>
              </a:rPr>
              <a:t>http://www.austintexas.gov/article/affordable-care-act-enrollment-solicit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Questions should be directed to Laura Williamson, </a:t>
            </a:r>
            <a:r>
              <a:rPr b="0" lang="en-US" sz="2200" spc="-1" strike="noStrike" u="sng">
                <a:solidFill>
                  <a:srgbClr val="df6c5d"/>
                </a:solidFill>
                <a:uFillTx/>
                <a:latin typeface="Calibri Light"/>
              </a:rPr>
              <a:t>Laura.Williamson2@austintexas.gov </a:t>
            </a: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       </a:t>
            </a: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512-972-520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Deadline to submit questions is 5:00pm on June 7, 2018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 Light"/>
              </a:rPr>
              <a:t>Anti-lobbying ordinance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lvl="2" marL="716040" indent="-1771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Request for Application (RFA) process: anti-lobbying ordinance does not appl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5438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Required Docum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142640"/>
            <a:ext cx="8167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ll required forms available for download on the solicitation page: </a:t>
            </a:r>
            <a:r>
              <a:rPr b="0" i="1" lang="en-US" sz="1500" spc="-1" strike="noStrike" u="sng">
                <a:solidFill>
                  <a:srgbClr val="0070c0"/>
                </a:solidFill>
                <a:uFillTx/>
                <a:latin typeface="Calibri"/>
              </a:rPr>
              <a:t>http://www.austintexas.gov/article/</a:t>
            </a:r>
            <a:r>
              <a:rPr b="0" lang="en-US" sz="1500" spc="-1" strike="noStrike" u="sng">
                <a:solidFill>
                  <a:srgbClr val="0070c0"/>
                </a:solidFill>
                <a:uFillTx/>
                <a:latin typeface="Calibri"/>
              </a:rPr>
              <a:t>affordable-care-act-enrollment-solicitation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for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050 Request for Application (RFA) Offer Shee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500 Application, Scope of Work, and Instruction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10 Application Threshold Checklis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45 Program Staff Positions and Tim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50 Program Budget and Narrativ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835 Nonresident Bidder Provision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attach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Current Board of Directors bylaws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Copy of the most recently filed 990 or 990 EZ (no older than FY 2016)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Most recent financial audit, covering the two most recent consecutive audit years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Approved Board of Directors Minutes that reflect documented processes to review program performance, approve budgets, review finance performance, and approve audit reports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Optional attach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Approved and signed Healthy Service Environment policy/policies (</a:t>
            </a:r>
            <a:r>
              <a:rPr b="0" i="1" lang="en-US" sz="1500" spc="-1" strike="noStrike">
                <a:solidFill>
                  <a:srgbClr val="404040"/>
                </a:solidFill>
                <a:latin typeface="Calibri"/>
              </a:rPr>
              <a:t>reference Part VI of Section 0500-Application, Scope of Work, and Instructions</a:t>
            </a: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Evaluation Crite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38080" y="1828800"/>
          <a:ext cx="7453440" cy="4255920"/>
        </p:xfrm>
        <a:graphic>
          <a:graphicData uri="http://schemas.openxmlformats.org/drawingml/2006/table">
            <a:tbl>
              <a:tblPr/>
              <a:tblGrid>
                <a:gridCol w="5715000"/>
                <a:gridCol w="173844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POINT VALUE: 110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RNED IN ALL REQUIRED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: Program Strategies &amp; Target 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ion to Imagine Aus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tion(s) Serv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I: Data Management and Program E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II: Staffing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V: Progra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V: Cost Effec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Impact and Return on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7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 VI: BONUS EVLAUATION POINTS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tiona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Response Instruction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pplicant must submit answers to all questions in a separate Word document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It is preferable to be repetitive rather than to leave sections incomple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Write question # and N/A when an answer will not be provid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omply with page limit of 20 total page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Use size 12 Times New Roman font, double-spacing, and 1” margi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rint single sid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early label each section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Application Questions A, B, C, D (p. 3-4 of 13 in 0500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arts I, II, III, IV, V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art VI if responding to optional s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21:26:34Z</dcterms:created>
  <dc:creator>Hilbun, John</dc:creator>
  <dc:description/>
  <dc:language>en-US</dc:language>
  <cp:lastModifiedBy>Friedman, Michelle</cp:lastModifiedBy>
  <cp:lastPrinted>2018-01-12T18:22:56Z</cp:lastPrinted>
  <dcterms:modified xsi:type="dcterms:W3CDTF">2018-05-21T15:07:18Z</dcterms:modified>
  <cp:revision>147</cp:revision>
  <dc:subject/>
  <dc:title>HOUSING FIRST PERMANENT SUPPORTIVE HOUSING</dc:title>
</cp:coreProperties>
</file>